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F71F-0FFE-4A13-9495-705DEBC5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F5E-245A-4D12-9126-AB9141A4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899-B71E-47A1-8863-72051CB7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B60-9A1B-4368-AAA0-603F9ACA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322-E93D-4459-8531-66F25B73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BC76-79DF-426C-BAEC-1CE6331C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C10-D03D-4BE4-9B4F-61AE335F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A411-4BB0-45E4-90C4-43E7CB7C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DD8-01BD-40C9-ADB9-459AFA2D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BDE-5FB7-4F3C-98BA-D880C53A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2B64-AAD7-4087-B7DE-CD91A3BB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189-FBA9-4A73-A5BD-8EE1E80F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CBE9-EF6F-4F69-BF34-1A4E235FEE0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2360" y="1179360"/>
            <a:ext cx="86392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22200" y="1844640"/>
            <a:ext cx="85708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64960" y="1557360"/>
            <a:ext cx="8666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إسراء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ذكرت حادثة الإسراء بالنبي صلى الله عليه وسلم من المسجد الحرام إلى المسجد الأقص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99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سراء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قص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14200" y="2421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ر ب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54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ديق الرسول صلى الله عليه وسلم في قصة الإسر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شيء من الواجبات والمنهيات في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د على المشرك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قدرة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cxnSp>
        <p:nvCxnSpPr>
          <p:cNvPr id="67" name="رابط كسهم مستقيم 27"/>
          <p:cNvCxnSpPr/>
          <p:nvPr/>
        </p:nvCxnSpPr>
        <p:spPr>
          <a:xfrm flipH="1">
            <a:off x="8456040" y="4198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50920" y="3965400"/>
            <a:ext cx="8208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تعنت الكفار مع النبي صلى الله عليه وسلم وتوجيه الرسول صلى الله عليه وسلم إلى كيفية الرد علي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250920" y="1467000"/>
            <a:ext cx="864216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42:56Z</dcterms:modified>
  <cp:revision>1827</cp:revision>
  <dc:subject/>
  <dc:title>عرض تقديمي في PowerPoint</dc:title>
</cp:coreProperties>
</file>